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8F6-DB16-4F7F-B469-286FA258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901-A648-4CFB-BD3A-516666AC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B8B-5F91-45D5-A0AC-57475E89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7B9-BB13-4E3E-B528-64E0096A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C1FC-DA90-43ED-BFF7-AC01546A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1BC2-B1D5-4139-9A79-F719F412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D070-EAE0-4A17-9BEC-48FA224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5EDC-49FF-4811-89B5-D1DBA1C3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E7EC-6BBD-4C84-B587-AD277EAD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099F-9350-45B1-8C7E-5E8AD725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FA6F-8985-404A-BC03-5AB4C7F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111-E12B-42B9-8217-A76F2147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A76A-62EE-4A70-BE6E-AFAD6E91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4ACA-E819-4981-982E-C8470140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C704-B6D0-4109-9884-154E21AD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F46B-4AEE-452E-866F-A8DCBF1C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C462-B7E5-4121-994D-F8C38A85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75D8-7F9B-437B-B489-B535783A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4126-19DB-4351-BC60-7DEC41B3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2585-2BC2-420F-A8AF-341ED80E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8D7C-23F7-4905-B1FF-B64E2083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AC300-0F6D-489D-8906-C949F389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9F6-6DAF-4F41-AE18-7E1AC547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0499-A04B-4EE3-8670-41519670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864B-4CE8-43DA-AB13-CD6A6813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A373-FA3B-4399-BD75-7D376A4D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44AF-5C7A-4CC9-A4DC-76B08D4F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9C90-9C64-4959-B80F-D5CA058F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B976-4B60-4DA2-9816-1BB87B59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1C65-DC7B-41FF-A916-ADEF6B6F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24163-8663-46DE-B7EF-B3155D46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3CAC8-9C1F-421F-AC58-CF983F0F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A10C9-57AF-481B-80C9-FBDE4B76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C5A-174E-458B-B5F6-99B35F6A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FC75F-E30E-4A2E-B36E-A2FBE6B0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CC8EA-77F4-4C61-BB88-8B945F0B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3368D-25A8-453C-B4ED-B6214FBE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7016C-AE66-4A09-881C-223EAA19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81DC-C679-4A8E-8990-1F0CECA3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83E6F-2975-4FFD-B357-81CBCE69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F9176-D7D4-4C28-8A00-22DBE93B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AF6B7-4620-44E0-ABF2-C07B5161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93F22-7B79-4D51-ADA5-28305C1D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51C4E-006D-471C-92B4-F807352E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FDF-F3C3-44FC-9FF8-938AB265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0333D-2672-4B6F-83DA-A439D426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81122-EF4C-4969-B550-BC6908DF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D2847-C0F5-4337-8B4C-BD4E6ADE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88672-0EEE-432F-B12A-B623D1A6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BDC9-42B4-433A-B518-96CD9723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E0E36-621C-490D-AE28-41DD83B3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CA3C6-6AC1-4E86-9068-FA2F3568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90A95-519D-452F-BC25-3A301D75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4C28-C810-48F0-B1CA-F33A57A1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B79D5-8EDD-41DB-AF62-EC10BFC2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4F4-4E0D-47E4-9560-51F889B9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BE13-A44D-4096-AFB0-F704305B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CC75C-228D-4601-A73E-EF673258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668C7-AF99-4874-92A0-38E76917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2CFB1-0D68-41B4-8BA1-66AA8E20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80A8D-15B3-4888-A22A-F213B8E9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E41E1-B80A-486E-B674-E62AA9B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E4E6B-6990-4551-B7D7-94FEBF5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A2760-6FA8-4996-9A78-6EACCDB4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11A22-E1D2-4A84-B313-13C1F6EB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A161A-753F-4EC8-B534-3CEF6F92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36B-8867-43C1-8106-9B5236E8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C89B7-AFDA-4F66-84F6-5F72DD1D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F6E90-3F36-4C4B-859B-CE8DD780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EBD46-D9E8-44F4-A896-DCA2115C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254-FB12-436F-9875-7AB34467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0E4-F661-4537-AF57-2F9E3E42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4CA1-116D-433D-BDC1-9136CB0FB94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949A-15A3-42EA-BDEB-7D03365C459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A2D3-156A-4BE2-A6A0-FE4CD0AE018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E615-6969-4974-A1F6-702D99F6BE5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EDF9-BD17-4F72-9B09-82594E6B4DC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81BD-D168-4B7C-9A4F-AD96A6C7A0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bf5f9"/>
                </a:solidFill>
                <a:latin typeface="Arial"/>
              </a:rPr>
              <a:t>PLANT TISSU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ing on the function they perform, we distinguish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hizodermis - parenchyma for absorption of water and mineral substa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lorenchyma - parenchyma for photosynthe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chyma for storing reserve substances (for storing nutrients - proteins, fats), aerenchyma, parenchyma for storing water..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0" name="Object 10"/>
          <p:cNvGraphicFramePr/>
          <p:nvPr/>
        </p:nvGraphicFramePr>
        <p:xfrm>
          <a:off x="5791320" y="533520"/>
          <a:ext cx="2527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33520"/>
                    <a:ext cx="2527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3"/>
          <p:cNvGraphicFramePr/>
          <p:nvPr/>
        </p:nvGraphicFramePr>
        <p:xfrm>
          <a:off x="5791320" y="1752480"/>
          <a:ext cx="255276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52480"/>
                    <a:ext cx="25527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7"/>
          <p:cNvGraphicFramePr/>
          <p:nvPr/>
        </p:nvGraphicFramePr>
        <p:xfrm>
          <a:off x="5791320" y="3200400"/>
          <a:ext cx="2552760" cy="14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200400"/>
                    <a:ext cx="25527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8"/>
          <p:cNvGraphicFramePr/>
          <p:nvPr/>
        </p:nvGraphicFramePr>
        <p:xfrm>
          <a:off x="5791320" y="5029200"/>
          <a:ext cx="255276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5029200"/>
                    <a:ext cx="2552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CHANICAL TISSU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maintain the shape of the plant b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s have a thickened cell w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types of mechanical tissu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aaf2"/>
                </a:solidFill>
                <a:latin typeface="Arial"/>
              </a:rPr>
              <a:t>COLLENHY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in the young parts of the plant,i.e. in organs that are still gr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aaf2"/>
                </a:solidFill>
                <a:latin typeface="Arial"/>
              </a:rPr>
              <a:t>SCLERENCHY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in the parts of the plant that arefinished gr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COMPLEX PERMANENT TISSU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OTECTIVE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irect contact with the external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 tissues - they are built by different types of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 func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protec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communication (stomes, lenticels, nectaries..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sr-CS" sz="3600" spc="-1" strike="noStrike">
                <a:solidFill>
                  <a:srgbClr val="660066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PYDERM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28600" y="25142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ed on the surface of the plant body (leaves, flower par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pidermal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cialize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5562720" y="4343400"/>
          <a:ext cx="265428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343400"/>
                    <a:ext cx="265428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10"/>
          <p:cNvGraphicFramePr/>
          <p:nvPr/>
        </p:nvGraphicFramePr>
        <p:xfrm>
          <a:off x="1295280" y="4856040"/>
          <a:ext cx="2578320" cy="20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56040"/>
                    <a:ext cx="257832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EPYDERM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0880" y="12193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Plant Tissues | Biology 343 – Plants and People"/>
          <p:cNvPicPr/>
          <p:nvPr/>
        </p:nvPicPr>
        <p:blipFill>
          <a:blip r:embed="rId1"/>
          <a:stretch/>
        </p:blipFill>
        <p:spPr>
          <a:xfrm>
            <a:off x="1676520" y="20574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PERIDE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ive lay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found on the surface of older parts of plan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ually replaces the epidermis - the green color changes to brow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4267080" y="2286000"/>
          <a:ext cx="161316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161316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6"/>
          <p:cNvGraphicFramePr/>
          <p:nvPr/>
        </p:nvGraphicFramePr>
        <p:xfrm>
          <a:off x="5943600" y="2514600"/>
          <a:ext cx="2971800" cy="27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514600"/>
                    <a:ext cx="29718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228600" y="68580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LENTIC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" y="4648320"/>
            <a:ext cx="7315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on the periderm instead of compact tissue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made of spherical cells with an intercellular space between them - air passes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where there were stomas on the epider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3352680" y="914400"/>
          <a:ext cx="43434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914400"/>
                    <a:ext cx="43434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VASCULAR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the conduction of matter through all parts of the plan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akes place in two direc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IRATION FLOW – transport of water and minerals from the roots to the lea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 FLOW - transport of substances created in the process of photosynthesis from the leaves to the roo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tissu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Xyl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Phlo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5" descr="Complex permanent tissue - xylem — lesson. Science State Board, Class 9."/>
          <p:cNvPicPr/>
          <p:nvPr/>
        </p:nvPicPr>
        <p:blipFill>
          <a:blip r:embed="rId1"/>
          <a:stretch/>
        </p:blipFill>
        <p:spPr>
          <a:xfrm>
            <a:off x="5372280" y="4648320"/>
            <a:ext cx="2819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ECRETORY SYSTE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retory cells can be single or in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thin primary cell w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 different secretions - solid or liquid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retes them from the outside (EXOGENEOUS secretory cells) or collects them in its body (ENDOGENEOUS secretory cell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ellular organisms - unicellular alga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5" descr="Multicellular and Unicellular Organisms - Differences and Examples"/>
          <p:cNvPicPr/>
          <p:nvPr/>
        </p:nvPicPr>
        <p:blipFill>
          <a:blip r:embed="rId1"/>
          <a:srcRect l="0" t="52463" r="0" b="0"/>
          <a:stretch/>
        </p:blipFill>
        <p:spPr>
          <a:xfrm>
            <a:off x="1371600" y="3657600"/>
            <a:ext cx="619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8" name="Picture 8" descr="Secretory Tissue in Plants + PPT | Easy Biology Class"/>
          <p:cNvPicPr/>
          <p:nvPr/>
        </p:nvPicPr>
        <p:blipFill>
          <a:blip r:embed="rId1"/>
          <a:srcRect l="0" t="12721" r="45035" b="0"/>
          <a:stretch/>
        </p:blipFill>
        <p:spPr>
          <a:xfrm>
            <a:off x="457200" y="1905120"/>
            <a:ext cx="4648320" cy="4703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Secretory tissues in Plants || Resins, gums, tannins, mucilage, Latex -  YouTube"/>
          <p:cNvPicPr/>
          <p:nvPr/>
        </p:nvPicPr>
        <p:blipFill>
          <a:blip r:embed="rId2"/>
          <a:srcRect l="0" t="13606" r="0" b="15643"/>
          <a:stretch/>
        </p:blipFill>
        <p:spPr>
          <a:xfrm>
            <a:off x="5410080" y="2514600"/>
            <a:ext cx="3733920" cy="19810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oup of morphologically and physiologically identical cells with a structure and function different from other cells of the same orga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t tissues build both living and dea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Plant tissue | Types Of Plant Tissue System &amp; Their Function"/>
          <p:cNvPicPr/>
          <p:nvPr/>
        </p:nvPicPr>
        <p:blipFill>
          <a:blip r:embed="rId2"/>
          <a:stretch/>
        </p:blipFill>
        <p:spPr>
          <a:xfrm>
            <a:off x="355680" y="1066680"/>
            <a:ext cx="878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0000"/>
                </a:solidFill>
                <a:uFillTx/>
                <a:latin typeface="Arial"/>
              </a:rPr>
              <a:t>1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MERISTEMIC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935000"/>
            <a:ext cx="464796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 of the plant body in which cells are constantly dividing are called MERISTE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are parenchymatous in shape, with only a primary cell wall, dense cytoplasm, small vacuoles and plastids at the proplasti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rtain number of meristem cells retain their embryonic character throughout the life of the pla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06" name="Object 9"/>
          <p:cNvGraphicFramePr/>
          <p:nvPr/>
        </p:nvGraphicFramePr>
        <p:xfrm>
          <a:off x="5943600" y="1447920"/>
          <a:ext cx="273672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447920"/>
                    <a:ext cx="273672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1"/>
          <p:cNvGraphicFramePr/>
          <p:nvPr/>
        </p:nvGraphicFramePr>
        <p:xfrm>
          <a:off x="6019920" y="4114800"/>
          <a:ext cx="289548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411480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rding to their position in the plant, meristems can b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Learn About Location Of Plant Tissue | Chegg.com"/>
          <p:cNvPicPr/>
          <p:nvPr/>
        </p:nvPicPr>
        <p:blipFill>
          <a:blip r:embed="rId1"/>
          <a:stretch/>
        </p:blipFill>
        <p:spPr>
          <a:xfrm>
            <a:off x="1752480" y="2362320"/>
            <a:ext cx="4891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0000"/>
                </a:solidFill>
                <a:uFillTx/>
                <a:latin typeface="Arial"/>
              </a:rPr>
              <a:t>2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PERMANENT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of these tissues are specialized to perform a specific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of these tissues usually do not have the ability to divi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SIMPLE T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sist of only one type of cells. We include:1) parenchyma 2) mechanical tissues - collenchyma and sclerenchy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OMPLEX T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ain more than one type of cell. They build three systems:1) subdermal system - epidermis and periderm 2) conducting system - phloem and xylem 3) secretory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6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PARENCHYMAL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30592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the basic mass of the plant bo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of parenchymal tissu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thin primary cell w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ytoplasm are plastids and a large vacuo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retain the ability to div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17" name="Object 6"/>
          <p:cNvGraphicFramePr/>
          <p:nvPr/>
        </p:nvGraphicFramePr>
        <p:xfrm>
          <a:off x="1981080" y="4343400"/>
          <a:ext cx="47246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343400"/>
                    <a:ext cx="4724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13:33Z</dcterms:created>
  <dc:creator>prodekan 01</dc:creator>
  <dc:description/>
  <dc:language>en-US</dc:language>
  <cp:lastModifiedBy>Korisnik</cp:lastModifiedBy>
  <dcterms:modified xsi:type="dcterms:W3CDTF">2022-10-03T13:34:31Z</dcterms:modified>
  <cp:revision>192</cp:revision>
  <dc:subject/>
  <dc:title>HROMOZOMSKE ABERACIJE</dc:title>
</cp:coreProperties>
</file>